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B48-A3C8-4FBA-8460-C997EF9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D0A-9DEF-4D7A-91CF-6C46C4F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411-D4C3-4F69-8A93-128E4EAB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C1C-0C5A-473A-8F78-DF4887A9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C6F5-0972-4283-B207-C24A27D7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DB4-08F7-404B-8FD9-32E21E4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85A3-D45D-4288-9B0F-72C98D01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DD98-3E5B-42DC-BE1C-969AC5C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8C7-F3DB-427B-BEC5-07DF347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CF3-3369-48A1-9CBF-5220CF9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97D-FD5D-4370-BCAF-6795BF2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ED3-1DFB-4C4B-B978-5BDF6EF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9648-30BC-4287-90C7-5F43DCB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D7C-5C52-4575-B9C4-345DFFC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675-258F-44D5-B241-E30FF1B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5CC-0C6B-47B1-8AE7-46BA12F2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0AF0-5694-426C-B932-D2FB0746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8564-580D-4B28-B900-369D5637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1863-F0AF-46E6-99C8-2BBA81A0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3458-93DA-42F0-892B-F53FAF2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298A-D8EA-40D6-8D34-E702417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23B8-0DA6-4F59-BAC2-880192B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5F6-F2E1-4C19-BA72-7DA711FA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7B23-5012-4E2E-9296-12AC9D3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D083-F5C6-4CA0-A3DE-A48F8B8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3E9E-733C-4B01-82A9-8F769C8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7E52-84DE-476C-A6D7-84F7B83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52AF-B40A-4F2C-8FF3-921D2F2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416F-C534-48EF-9BF8-227D435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3714-3A63-42FB-ABF1-8F3845C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BB58-F65A-4CE3-B3C6-A6184FE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D185-1121-487C-9B4B-F52FF2E3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0D12-74DB-4DBB-BCEB-6CD8870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4F0-CEF5-439B-9241-C6A4AFC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62B9-1F39-475C-9848-19F1EEC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00CC-09BD-4458-9F41-3EFA53E8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6F89-5FB1-4A1F-B466-1ABC7EB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2503-D863-4722-BEC1-90EA44A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5350-DDD4-4551-932F-8E898D7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9B0E-CF2A-4DA9-A864-C4C19C2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A973-9FF4-4317-99E1-DFF19D6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2105-B2E3-4879-9701-56CB781C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C4C8-E0E4-4A19-8AFB-32C34C1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B1CE-20CA-498C-BEB6-0FBFC4B6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D39-FCC1-4F62-A272-8ABFABB5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699F-4DB8-4323-9D8C-CB357BF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414A-04EB-4B0E-9BF7-DC5B161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376E-6F21-4F2C-9050-40309B33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CD8A-38CD-4E63-92D6-29F975FE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B674-7CF0-4380-B160-B18E8B0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D114-04E7-4A17-BD35-D848F44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5756-9EE8-4969-8E37-3729D246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3D0D-F476-4E83-8981-E53C2DA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0A72-27A3-43BA-84E0-1F6678DF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E323-4D2A-4274-BAF8-C4C61550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9BC-BB14-435F-B240-7C9ECB2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04F9-AA5B-4987-8B8B-8C721B93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358-2AC0-44F8-88E8-26D0516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E0C-2A10-4346-802D-4EF1E71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B14-E866-460E-9F6A-66C7078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9CCE-D02F-45FE-871E-1A2EB9D00CD1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90DA-A895-4E5A-8DFC-71B633C66A83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5B79-C65F-471F-8B1D-8EA8D9CB927A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994C-6669-4CF7-B3D1-ED7E733BAC4C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2D26-631E-4984-BE4E-71AC44022A9C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A Critical Perspectiv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1280" y="765000"/>
            <a:ext cx="3816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 genre that blurs fact, fiction and real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rd to define – a hybrid genre that continues to 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ll reality shows are constructed and audience viewpoint manipulat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s ‘reality tv’ as a label ironic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habits a borderline territory between information and entertain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genre is often used to illustrate arguments about the alleged ‘dumbing down’ of televis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ypically ‘lifestyle’ self improvement/makeover programmes involving real people in real situa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se people usually are experiencing some sort of trauma in their lives with regards to their appearance, their house/garden etc which is then transformed and improved by the exper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ransformation...of an individual (How to look Good Nake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oup (Supernanny, Jamie’s Kitchen, Brat Cam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use (Changing Room, 60 minute Makeov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270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586640" y="1268280"/>
            <a:ext cx="1557360" cy="216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451640" y="5695920"/>
            <a:ext cx="1692360" cy="1162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4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yeurism is a term used to describe the pleasure that people get from watch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ther peop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ch of the interest in reality TV surrounds the audience’s voyeuristic interest in people having sex in front of the camer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ernet has influenced how we consume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essentially a voyeuristic medium – audience is generally anonymous but able to access a whole range of images and information about other people’s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hen experts or other contestants criticise participants or the show’s format involves humili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X factor/Britain’s got Tal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Big Bro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’m a Celebrity Get me Out of He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9876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reverse side of voyeurism is exhibition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web encourages people to behave in an exhibitionist way that they might not consider in publi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webcam allows people to give worldwide access to the intimate details of their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lebrity status was once reserved for those who had achieved highly in their field, eg. Hollywood actors, sport st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lebrity has now become central to our everyday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3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our media saturated society there is an insatiable demand for celebrity to fill TV schedules and newspaper colum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manufacture of celebrities is essential to fuel this demand – reality TV is one way of doing thi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voyeurism and exhibitionism that is now central to our culture has its origins in and is a reflection of society’s fixation with surveillan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t modern culture has taken surveillance and turned it into an opportunity for people to become stars in their own film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hy do we continue to watch?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variety of formats means there is something for everyo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e enjoy the feeling of empowerment when we can influence the outcome – Big Brot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e enjoy emotional realism as we recognise and perhaps empathise with the emotions (insecurity, excitement, antagonism etc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482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5334120"/>
            <a:ext cx="1800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ead pages 8-11 from textbook on ‘Celebrity’ and make not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9:37:16Z</dcterms:created>
  <dc:creator>Grainne</dc:creator>
  <dc:description/>
  <dc:language>en-US</dc:language>
  <cp:lastModifiedBy>declan</cp:lastModifiedBy>
  <dcterms:modified xsi:type="dcterms:W3CDTF">2010-09-08T16:37:08Z</dcterms:modified>
  <cp:revision>25</cp:revision>
  <dc:subject/>
  <dc:title>Reality TV</dc:title>
</cp:coreProperties>
</file>